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30DF9-4206-49F9-9291-263A4BB4E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8067-E3FB-4AA9-A4CC-8B5A74B82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2C2E3-93A0-45A5-8B2B-36C026987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ADB23-02F4-496C-97D5-9A16C26CE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2456C-F4A8-4AB9-9547-1B0380A2A4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B5E43-FCCE-4AA1-8730-7041D3B39C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272FE-3D46-4ECE-851B-D11708D5D1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8B794-CCDC-4C91-A3B6-CA352B9B83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6ED10-529A-44AB-8661-230DD1469A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86322-3654-47E2-95F3-34645921B6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1D14C-1DB4-4AC0-9543-B9FBC0795D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7E0BF-7011-421C-8DE1-10C73256B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25337-5BFC-4971-A86A-F6F1CB536D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98F86-0247-4CD3-ADB8-1EB0F8CFA0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1931A-5A47-434B-9FA2-14D27A0D56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C8EEE-1011-4BF2-88A7-1795F67862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D6523-7034-45B1-AD33-9457D066FA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2A9C-CEA6-45DA-8315-B3C072F0B4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518D-EC45-4455-A476-0D042605A4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B755-4465-493F-BFBD-63062E7EAC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0E80-4B54-47D9-A541-D40F6969EC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E59B-2DF9-4EF1-85C0-8BEED60240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B87BD-7FB6-4858-8A2A-CA9E0AE022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7F87-E363-4B48-AAE0-CEDF5CA053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C6BE-F457-4C68-B789-EDFDA492CD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D252-DDC2-46CA-B4D7-F176258632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6E82-7B66-4595-BF66-629AAE05EC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95AE-891B-4263-A40E-1D3118AE9C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3F9A-70D8-415D-B98E-592A3E84A9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6D9B-F63E-427E-9DB1-5F84D9609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D4D7-A8D6-46F4-91E3-9C89B85EC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00C60-F154-4A7B-9CA3-252AEC51B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6AB25-087D-46E0-9847-5DDDE5F92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7420B-EE29-4612-84D9-5815E24B3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84F5F-AD64-4790-9468-569B99926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97775-BACC-4A77-819C-09B7E860F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61C9-5E02-4A97-8EC2-9006F04AB59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7"/>
          <p:cNvGrpSpPr/>
          <p:nvPr/>
        </p:nvGrpSpPr>
        <p:grpSpPr>
          <a:xfrm>
            <a:off x="380880" y="6400800"/>
            <a:ext cx="685440" cy="228600"/>
            <a:chOff x="380880" y="6400800"/>
            <a:chExt cx="685440" cy="228600"/>
          </a:xfrm>
        </p:grpSpPr>
        <p:sp>
          <p:nvSpPr>
            <p:cNvPr id="40" name="Freeform 8"/>
            <p:cNvSpPr/>
            <p:nvPr/>
          </p:nvSpPr>
          <p:spPr>
            <a:xfrm>
              <a:off x="844200" y="6400800"/>
              <a:ext cx="22212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41" name="Freeform 9"/>
            <p:cNvSpPr/>
            <p:nvPr/>
          </p:nvSpPr>
          <p:spPr>
            <a:xfrm>
              <a:off x="635040" y="6400800"/>
              <a:ext cx="21636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42" name="Freeform 10"/>
            <p:cNvSpPr/>
            <p:nvPr/>
          </p:nvSpPr>
          <p:spPr>
            <a:xfrm>
              <a:off x="380880" y="6400800"/>
              <a:ext cx="24084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</p:grpSp>
      <p:sp>
        <p:nvSpPr>
          <p:cNvPr id="43" name="Text Box 11"/>
          <p:cNvSpPr/>
          <p:nvPr/>
        </p:nvSpPr>
        <p:spPr>
          <a:xfrm>
            <a:off x="1295280" y="63244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Zachodniopomorski Oddział Wojewódzki</a:t>
            </a:r>
            <a:endParaRPr b="1" lang="en-US" sz="18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BC64-4207-4790-90F8-EC3B28CA0D0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7"/>
          <p:cNvGrpSpPr/>
          <p:nvPr/>
        </p:nvGrpSpPr>
        <p:grpSpPr>
          <a:xfrm>
            <a:off x="380880" y="6400800"/>
            <a:ext cx="685440" cy="228600"/>
            <a:chOff x="380880" y="6400800"/>
            <a:chExt cx="685440" cy="228600"/>
          </a:xfrm>
        </p:grpSpPr>
        <p:sp>
          <p:nvSpPr>
            <p:cNvPr id="84" name="Freeform 8"/>
            <p:cNvSpPr/>
            <p:nvPr/>
          </p:nvSpPr>
          <p:spPr>
            <a:xfrm>
              <a:off x="844200" y="6400800"/>
              <a:ext cx="22212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85" name="Freeform 9"/>
            <p:cNvSpPr/>
            <p:nvPr/>
          </p:nvSpPr>
          <p:spPr>
            <a:xfrm>
              <a:off x="635040" y="6400800"/>
              <a:ext cx="21636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86" name="Freeform 10"/>
            <p:cNvSpPr/>
            <p:nvPr/>
          </p:nvSpPr>
          <p:spPr>
            <a:xfrm>
              <a:off x="380880" y="6400800"/>
              <a:ext cx="24084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</p:grpSp>
      <p:sp>
        <p:nvSpPr>
          <p:cNvPr id="87" name="Text Box 11"/>
          <p:cNvSpPr/>
          <p:nvPr/>
        </p:nvSpPr>
        <p:spPr>
          <a:xfrm>
            <a:off x="1295280" y="63244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Zachodniopomorski Oddział Wojewódzki</a:t>
            </a:r>
            <a:endParaRPr b="1" lang="en-US" sz="18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AFFF-E425-4231-B5D6-7865062E0BE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ymbol zastępczy numeru slajdu 3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0230-4CDC-45FA-8287-8E01438D29FC}" type="slidenum">
              <a:rPr b="0" lang="pl-PL" sz="1400" spc="-1" strike="noStrike">
                <a:solidFill>
                  <a:srgbClr val="ffaf3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af39"/>
                </a:solidFill>
                <a:latin typeface="Times New Roman"/>
              </a:rPr>
              <a:t>Personalne listy pacjentów oczekujących </a:t>
            </a:r>
            <a:br>
              <a:rPr sz="3200"/>
            </a:br>
            <a:r>
              <a:rPr b="1" lang="pl-PL" sz="3200" spc="-1" strike="noStrike">
                <a:solidFill>
                  <a:srgbClr val="ffaf39"/>
                </a:solidFill>
                <a:latin typeface="Times New Roman"/>
              </a:rPr>
              <a:t>na wybrane świadczenia opieki zdrowotnej    </a:t>
            </a:r>
            <a:endParaRPr b="1" lang="en-US" sz="32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434340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Angelika Milkiewicz-Ławicka 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Naczelnik Wydziału Spraw Świadczeniobiorców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Zachodniopomorski Oddział Wojewódzki  NFZ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Szczecin, 18 września 2009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087560" y="3684600"/>
            <a:ext cx="71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af39"/>
                </a:solidFill>
                <a:latin typeface="Times New Roman"/>
              </a:rPr>
              <a:t>Seminarium z udziałem Federacji Pacjentów Polskich</a:t>
            </a:r>
            <a:endParaRPr b="1" lang="en-US" sz="2400" spc="-1" strike="noStrike">
              <a:solidFill>
                <a:srgbClr val="ffaf3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Cel prowadzenia personalnych list pacjentów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868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Cel głów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ówny, niedyskryminujący i przejrzysty dostęp do świadcze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Cele szczegóło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monitorowanie czasu oczekiwania na świadczeni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a dostępności do lecz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zetelna informacja dla pacjentó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ciwdziałanie korupc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kreślania zapotrzebowania na świadczenia zdrowot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owadzenie listy jest obowiązkiem ustawowym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Arial"/>
              </a:rPr>
              <a:t>Zasady zapisywania na listę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5880" y="1371600"/>
            <a:ext cx="761976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Udzielanie świadczeń według kolejności zgłoszen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2. Wpis na listę oczekujących wg. kategorii medycznej, od  której zależy termin realizacji świadczen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85480">
              <a:lnSpc>
                <a:spcPct val="100000"/>
              </a:lnSpc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ypadek pilny – ze względu na dynamikę procesu chorobowego i możliwość szybkiego pogorszenia stanu zdrowia lub znaczącego zmniejszenia szans na powrót do zdrow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85480">
              <a:lnSpc>
                <a:spcPct val="100000"/>
              </a:lnSpc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ypadek stabiln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3. Nagłe pogorszenie stanu zdrowia - prawo do zmian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terminu lecze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4. Prowadzenie wpisów - na bieżąco, w dniu zgłoszenia do świadczeniodaw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Przekazywanie do NFZ personalnych list pacjentów z dokładnością do numeru PESEL </a:t>
            </a: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6765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Od 1 kwietnia 2008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na endoprotezoplastykę stawu biodrowego i kolanow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wszczepianie implantów kręgosłu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Od 1 stycznia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usunięcia zać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angioplasty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ymbol zastępczy numeru slajdu 3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93E4-30C4-4FB9-91B4-F2FD7999E663}" type="slidenum">
              <a:rPr b="0" lang="pl-PL" sz="1400" spc="-1" strike="noStrike">
                <a:solidFill>
                  <a:srgbClr val="ffaf3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af3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Przypadki </a:t>
            </a:r>
            <a:r>
              <a:rPr b="1" lang="pl-PL" sz="3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wykreślone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 z listy oczekujących w efekcie  weryfikacji prowadzonej od kwietnia 2008 -  do czerwca 2009</a:t>
            </a: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Object 5"/>
          <p:cNvGraphicFramePr/>
          <p:nvPr/>
        </p:nvGraphicFramePr>
        <p:xfrm>
          <a:off x="838080" y="2057400"/>
          <a:ext cx="7283520" cy="33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2835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pl-PL" sz="3800" spc="-1" strike="noStrike">
                <a:solidFill>
                  <a:srgbClr val="ffaf39"/>
                </a:solidFill>
                <a:latin typeface="Times New Roman"/>
              </a:rPr>
              <a:t>Efekt weryfikacji personalnych list</a:t>
            </a:r>
            <a:br>
              <a:rPr sz="3800"/>
            </a:br>
            <a:endParaRPr b="1" lang="en-US" sz="38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Weryfikacja pozwoliła 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usunąć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z list oczekujących na endoprotezoplastykę 1.194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PESELE powtarzające się więcej niż dwa razy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Weryfikacja pokazała, że średni wykazywany czas oczekiwania wynoszący 1.089 dni jest w rzeczywistości prawie trzy razy krótszy i 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wynosi  329 dni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Fundusz nie finansuje planowych zabiegów endoprotezoplastyki, które wykonano z pominięciem list oczekujący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pl-PL" sz="3800" spc="-1" strike="noStrike">
                <a:solidFill>
                  <a:srgbClr val="ffaf39"/>
                </a:solidFill>
                <a:latin typeface="Times New Roman"/>
              </a:rPr>
              <a:t>Obecny czas oczekiwania na endoprotezę </a:t>
            </a:r>
            <a:br>
              <a:rPr sz="3800"/>
            </a:br>
            <a:endParaRPr b="1" lang="en-US" sz="38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tawu biodrowe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6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o 600 dn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ne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105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ilne- 351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tawu kolanow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4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o 700 dn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lne- 100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ilne – 288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Korzyści z personalizacji lis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Rzetelna i wiarygodna informacja o udzielanych świadczeniach zarówno dla pacjenta, jak i dla NF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Dane rzeczywiste, a nie orientacyj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Realne skrócenie czasu oczekiwania na wykonanie świadczenia poprzez możliwość wyboru świadczeniodaw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Dzięki identyfikacji pacjenta – realne skrócenie list oczekujących (pacjent oczekujący do jednego, a nie do kilku świadczeniodawców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07:43:08Z</dcterms:created>
  <dc:creator>MZydorowicz Biuro Dyrektora</dc:creator>
  <dc:description/>
  <dc:language>en-US</dc:language>
  <cp:lastModifiedBy>MKoszur</cp:lastModifiedBy>
  <cp:lastPrinted>2005-05-18T05:49:40Z</cp:lastPrinted>
  <dcterms:modified xsi:type="dcterms:W3CDTF">2009-09-18T13:26:13Z</dcterms:modified>
  <cp:revision>680</cp:revision>
  <dc:subject/>
  <dc:title>Prezentacja programu PowerPoint</dc:title>
</cp:coreProperties>
</file>